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FAE-2DD0-44B7-8CFF-B141C84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479-B9CB-4364-B553-66F533D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BC5-B615-4C53-BEF3-CDDAAE6D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F2C-AF92-4AF2-9EEB-421D5530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A4A-555C-4984-9DEB-0490380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FD7-507E-4EA3-8439-B3B101E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388-B2A5-45A1-AEB2-7CF8C3AB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025-6027-4FD1-A40E-82507C5F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E11-FCBC-46FA-94F7-5D6048D2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A62-1788-4850-81A1-52798C4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53-E559-43D7-80FD-07C620F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54C-B8C2-4A8F-91E4-73EFCAF5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2FD-0C48-4791-ADB3-D83E5F07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في هذا العيد  المجدُ قد تعالى والنورُ قد تَلالا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جاء المسيح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هذا المسيحُ المُنتَظَر  مَن حُبُّهُ عمَّ أفرادَ البَشَرْقد سَرّنا هذا الخَبَر   بُشرى لنا فالقلبُ أضحى مُست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17" descr=""/>
          <p:cNvPicPr/>
          <p:nvPr/>
        </p:nvPicPr>
        <p:blipFill>
          <a:blip r:embed="rId1"/>
          <a:stretch/>
        </p:blipFill>
        <p:spPr>
          <a:xfrm>
            <a:off x="-54000" y="0"/>
            <a:ext cx="5540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هذا العيد ملائكُ السَّماءِ  في قُبَّةِ الفضاء قد أَنشد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له مجدٌ في العُلى  والسِّلمُ في الأَرضين قد عمَّ المَ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حَقُّ أن نُهَلِّلا  مع زُمرةِ الأملاكِ فيما مجَّدو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457200"/>
            <a:ext cx="44197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 هذا العيد قد تمَّتِ الوعودُ وجاءَنا الموعودُ فادي العب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ُعطي الوَرى روحَ السلام  والحبَّ والّلطفَ الذي يُحي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َنفي من الأرضِ الظَّلام إذ نورُهُ يمتَدُّ في كلِّ البلا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0"/>
            <a:ext cx="358128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هذا العيد تبتهجُ القلوبُ وتفرحُ الشعوبُ بالمُفْتَ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أيها الطفلُ الحبيبْ  نفسي بِمَرأى وجهِكَ الزَّاهي تط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ن ساكنَ القلبَ الرَّحيبْ  كي أُولَدَ اليومَ بهذا المَولِ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للويا جاء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0:23:03Z</dcterms:created>
  <dc:creator>SUZANNE.MD</dc:creator>
  <dc:description/>
  <dc:language>en-US</dc:language>
  <cp:lastModifiedBy>USER</cp:lastModifiedBy>
  <dcterms:modified xsi:type="dcterms:W3CDTF">2002-12-23T19:55:57Z</dcterms:modified>
  <cp:revision>2</cp:revision>
  <dc:subject/>
  <dc:title>PowerPoint Presentation</dc:title>
</cp:coreProperties>
</file>